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B56-6EAD-4B42-B958-68E680C8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C3A-4930-42E3-8BED-BFCCB87D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A53-14AB-4520-884C-3344BB7F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AD0-26A6-43C7-815A-627F8E8D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8C8-0248-46AF-9EAB-86EB3C9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2B0-7B9B-4CC5-81B8-E1793294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FF5-A302-417C-A73E-6EC271D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71F-52BB-4DB1-BE6D-CD895DED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0CD-6F48-40EF-8D56-31A889B6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259-C516-428E-A5F6-5C5C4AB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144-FF8D-40EB-A903-2FDF200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FB6-B6F2-485E-AE3A-E71AF51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903-FDD9-4D89-AE60-55F0DCCF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60280"/>
            <a:ext cx="2160720" cy="122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58920" y="141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24280"/>
            <a:ext cx="280836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4365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2735280" cy="1700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4724280"/>
            <a:ext cx="1584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211280" y="54446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850920" y="5373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5373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5877000"/>
            <a:ext cx="935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6165720"/>
            <a:ext cx="935280" cy="69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5877000"/>
            <a:ext cx="1008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197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1773360"/>
            <a:ext cx="2808360" cy="1439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76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33360"/>
            <a:ext cx="2449440" cy="115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7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1341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620640"/>
            <a:ext cx="133200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2133720"/>
            <a:ext cx="2016000" cy="151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3284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149720"/>
            <a:ext cx="1584360" cy="13669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8360" y="5661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028000" y="6021360"/>
            <a:ext cx="865080" cy="836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6093000"/>
            <a:ext cx="720720" cy="765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7:19Z</dcterms:created>
  <dc:creator>studente</dc:creator>
  <dc:description/>
  <dc:language>en-US</dc:language>
  <cp:lastModifiedBy>studente</cp:lastModifiedBy>
  <dcterms:modified xsi:type="dcterms:W3CDTF">2016-12-05T08:46:18Z</dcterms:modified>
  <cp:revision>6</cp:revision>
  <dc:subject/>
  <dc:title>Diapositiva 1</dc:title>
</cp:coreProperties>
</file>